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12A-4EAC-43A2-AF34-0D5392B3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A74-16F9-49AB-B815-682D21F6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CAE-282A-4C59-887B-9A402A69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EED-C8C6-4152-8B98-3C0FDC46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1D0-0C54-411C-B945-539D41B4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75A-7BC7-47EC-AE1E-953093E6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293-0FEA-4490-B104-DA42A4EF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C84-EEEC-4B33-ABBD-81113BDA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026-B2B7-4C24-BEAD-0B5E3A34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3C3-C694-4F19-A6B8-DA5FD30F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EC8-CF93-4D86-B986-77EB06C9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88D-298D-460F-B0C2-1260CB70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2604-9281-42E3-B59C-8404ED67D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333360"/>
            <a:ext cx="7619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5:43:48Z</dcterms:created>
  <dc:creator>Becky Krichevsky</dc:creator>
  <dc:description/>
  <dc:language>en-US</dc:language>
  <cp:lastModifiedBy>Becky Krichevsky</cp:lastModifiedBy>
  <dcterms:modified xsi:type="dcterms:W3CDTF">2009-04-07T05:43:59Z</dcterms:modified>
  <cp:revision>1</cp:revision>
  <dc:subject/>
  <dc:title>Slide 1</dc:title>
</cp:coreProperties>
</file>